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160-78B0-4BBF-A1FE-CFBCE907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2E8-43C2-4A04-ADC0-B6843F0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257-919A-4D8E-B9F4-95C2D7F5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329-63B9-4CF1-9132-813D3B94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1B2-D81B-4A4A-AC4E-2FE84DF3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228-609F-4288-9212-1B5006A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CE3-CA16-43D2-9048-9F63A237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582-AA4B-4342-81E0-3BA8D37E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8D3-292E-4E55-A9C9-F39F6FE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FF5-E051-4139-80EA-3AB4B75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3FE-4318-4DB0-B44B-E04E017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C75-4397-4DD4-9B9D-2A6E36F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1FA4-1F9B-4315-9BB5-90BC41470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eague M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greecetaxivip.gr/useful_info/ancientgreece_clip_image005.gif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://www.users.cloud9.net/~bradmcc/jpg/SA.jpg"/>
          <p:cNvPicPr/>
          <p:nvPr/>
        </p:nvPicPr>
        <p:blipFill>
          <a:blip r:embed="rId1"/>
          <a:stretch/>
        </p:blipFill>
        <p:spPr>
          <a:xfrm>
            <a:off x="0" y="196524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ttp://www.earthweek.com/online/ew071012/ew071012h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ttp://www.crystalinks.com/pelopwarmap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ttp://www.southwestern.edu/departments/classics/text-restr/lawton12.jpe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fineartpaintingtips.com/wp-content/uploads/2010/10/ancient-greek-ships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worldmarked.com/wp-content/uploads/2012/01/Athens_Acropolis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sikyon.com/athens/monuments/agora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685800"/>
            <a:ext cx="9144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http://jacksonmanngradesix.weebly.com/uploads/6/5/2/2/6522842/4323090.png?345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downloads.bbc.co.uk/rmhttp/schools/primaryhistory/images/ancient_greeks/sparta/g_statue_of_king_leonidas_of_ancient_sparta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 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http://t1.gstatic.com/images?q=tbn:ANd9GcQUL9IwcwmK0lx6TQ6ucurgWClYL19ThzVkr5EvxHDsVbXwWPEZTsSH879A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greece.mrdonn.org/athens1.gif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englishcollective.org/wp-content/uploads/2011/10/lady-justice.pn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0.tqn.com/d/ancienthistory/1/0/_/P/SaulandDavid.jpg"/>
          <p:cNvPicPr/>
          <p:nvPr/>
        </p:nvPicPr>
        <p:blipFill>
          <a:blip r:embed="rId1"/>
          <a:stretch/>
        </p:blipFill>
        <p:spPr>
          <a:xfrm>
            <a:off x="0" y="1487520"/>
            <a:ext cx="91440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01:37Z</dcterms:modified>
  <cp:revision>101</cp:revision>
  <dc:subject/>
  <dc:title>Ancient Greece</dc:title>
</cp:coreProperties>
</file>